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1784-9495-41B3-83B2-E64E6543C12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874C-6900-445C-9634-76BD9F30AF4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790A-D2CE-401B-AB82-2518E200DA0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345C-7B91-4F7C-98A2-1BD7BD79ABB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ADB2-45BC-4FBD-A95F-BF8FF634037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C237-FE64-49C3-B098-FE293DD1459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1947-8C4A-4115-9C3D-42725344921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81E7-AD7C-4947-8BAE-B7482F05B9B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F8D7-3293-4B99-B276-88AE3C1F6E2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5F57-A91C-4689-88B3-D413C15C025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847A-62BC-4CD3-818E-A11AE9AACF8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26C5-12A8-4410-A1FB-E0C41146E37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0709-4C68-4BBE-AF87-CDE8EC47E4E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212F-A0B3-480D-9C4D-6A4C14E108A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AD85-5309-47F8-9AB9-81C0FD7F4B3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8567-65C0-4BB2-A1F7-ECC72B7A9C0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D362-40B4-448C-B29F-B8EE94FE229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09BE-E1B6-4BEA-8FCF-49A15DAAA4F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281D-CAA3-4DA1-AA22-FE437981E64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B5BA-2521-478C-8080-75E8956A35B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6B55-88C4-4A15-8D5B-B15A89218C0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92D2-323A-4275-8080-26A7153FFB0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36C3-DA19-4F54-AEEC-DD349D0DD4B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E17D-B637-4C20-8485-4969869D8D4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C678-A927-41CB-9294-87C8631FED2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46C0-F6E5-40AC-8804-2DE3452A90F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5E78-CE57-4FE4-8229-B32248D99EE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BD77-6463-4044-96C2-44CBDC0EECA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23E7-78A7-4C6D-A8D1-57683696D7E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21E5-9533-4828-AD75-2BCF657CC89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7C52-0900-4A01-AF18-21EC04F8028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AC55-A942-47AD-A88E-FAFD7431840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979C-C1AC-481D-B9A9-75AB6132F16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1439-3ABC-453E-A526-7B2D75F98CA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32EF-40C7-451C-BAE4-742ABC55B6A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EFA7-7440-444C-BBE7-C709C44B628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00F4-3B47-4E01-82AB-B47B1DB360A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5849-8890-467B-B05E-63A5FA063F1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7BAB-52EA-4348-8CA1-0260C029C56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674D-09F5-4485-AFAC-136186D5DDE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FF37-1667-4D90-B6D0-1225322B923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8F9D-68B9-4CBB-B993-12A367D5731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2B23-376D-46C1-B47A-EB14D1F1591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869A-B23D-4583-88DE-11BC6039298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8D25-39B6-4E9C-AD55-15C4CD9A148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48A2-97F2-4F04-84E6-B135C7782DB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E60F-A9D3-4DBF-B490-FF5134A7D21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BB40-4C4E-45F9-914B-368CAFB64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6140-03AB-4FE3-BC0A-2D047F0A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57D2-7AE9-4CD9-AD1B-10FCD5C0C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AA3D-1BC8-44B4-A47D-EC5CDF54A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380B-8F26-4176-AF18-7CB19F8E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D51D-1B77-452E-93E6-107D878B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26F9-2192-40EE-A7A5-63305E47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3350-327C-45E3-84C4-07E32D16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14A0-20D5-4CD8-9519-B3FD7757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F27D-AA97-42C7-B679-0D1D69DB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6C18-2AD6-442C-BAE6-681EE96D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206C-5F92-47E8-A08D-77AAB8D9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D8C6-DC5C-4972-967B-D061DA22A24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4000" y="1628640"/>
            <a:ext cx="78850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Arial"/>
              </a:rPr>
              <a:t>NUTRI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539640" y="76500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4-</a:t>
            </a:r>
            <a:r>
              <a:rPr b="1" lang="en-US" sz="20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Tolerable Upper intake Level 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(U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UL 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is the highest average daily nutrient intake level that is likely to pose </a:t>
            </a:r>
            <a:r>
              <a:rPr b="1" lang="en-US" sz="2000" spc="-1" strike="noStrike" u="sng">
                <a:solidFill>
                  <a:srgbClr val="006600"/>
                </a:solidFill>
                <a:uFillTx/>
                <a:latin typeface="Verdana"/>
              </a:rPr>
              <a:t>no risk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 of adverse health effects to almost all individuals in the general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L 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is </a:t>
            </a:r>
            <a:r>
              <a:rPr b="0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not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used as recommended levels of inta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Ls 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are useful because of the increased use of dietary suppl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and fortified foo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Ls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 apply to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hronic daily use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For some nutrients, there may be insufficient data on which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develop a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L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611280" y="907920"/>
            <a:ext cx="8064360" cy="79236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915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Verdana"/>
              </a:rPr>
              <a:t>Using the D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-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Most nutrients have a set of </a:t>
            </a:r>
            <a:r>
              <a:rPr b="1" i="1" lang="en-US" sz="1800" spc="-1" strike="noStrike">
                <a:solidFill>
                  <a:srgbClr val="ff6600"/>
                </a:solidFill>
                <a:latin typeface="Verdana"/>
              </a:rPr>
              <a:t>DIRs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-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Usually a nutrient has an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EAR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and a corresponding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RDA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most are set by age and gender and may be </a:t>
            </a:r>
            <a:r>
              <a:rPr b="0" i="1" lang="en-US" sz="1800" spc="-1" strike="noStrike">
                <a:solidFill>
                  <a:srgbClr val="006600"/>
                </a:solidFill>
                <a:latin typeface="Verdana"/>
              </a:rPr>
              <a:t>influenced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by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special factors such as pregnancy and lactation in women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.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3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-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When the data are </a:t>
            </a:r>
            <a:r>
              <a:rPr b="0" lang="en-US" sz="1800" spc="-1" strike="noStrike" u="sng">
                <a:solidFill>
                  <a:srgbClr val="006600"/>
                </a:solidFill>
                <a:uFillTx/>
                <a:latin typeface="Verdana"/>
              </a:rPr>
              <a:t>not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sufficient to estimate an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EAR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(or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RDA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)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then an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AI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is designated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The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AI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is </a:t>
            </a:r>
            <a:r>
              <a:rPr b="0" lang="en-US" sz="1800" spc="-1" strike="noStrike" u="sng">
                <a:solidFill>
                  <a:srgbClr val="006600"/>
                </a:solidFill>
                <a:uFillTx/>
                <a:latin typeface="Verdana"/>
              </a:rPr>
              <a:t>judged by experts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to meet the needs of all individuals in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a group, </a:t>
            </a:r>
            <a:r>
              <a:rPr b="0" i="1" lang="en-US" sz="1800" spc="-1" strike="noStrike" u="sng">
                <a:solidFill>
                  <a:srgbClr val="006600"/>
                </a:solidFill>
                <a:uFillTx/>
                <a:latin typeface="Verdana"/>
              </a:rPr>
              <a:t>but</a:t>
            </a:r>
            <a:r>
              <a:rPr b="1" i="1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is based on </a:t>
            </a:r>
            <a:r>
              <a:rPr b="0" lang="en-US" sz="1800" spc="-1" strike="noStrike" u="sng">
                <a:solidFill>
                  <a:srgbClr val="006600"/>
                </a:solidFill>
                <a:uFillTx/>
                <a:latin typeface="Verdana"/>
              </a:rPr>
              <a:t>less data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than in establishing an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EAR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and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R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27_003"/>
          <p:cNvPicPr/>
          <p:nvPr/>
        </p:nvPicPr>
        <p:blipFill>
          <a:blip r:embed="rId1"/>
          <a:srcRect l="32098" t="1535" r="31179" b="24832"/>
          <a:stretch/>
        </p:blipFill>
        <p:spPr>
          <a:xfrm>
            <a:off x="755640" y="404640"/>
            <a:ext cx="7777080" cy="5761080"/>
          </a:xfrm>
          <a:prstGeom prst="rect">
            <a:avLst/>
          </a:prstGeom>
          <a:ln w="648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35344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Verdana"/>
              </a:rPr>
              <a:t>Using the DRIs</a:t>
            </a: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  </a:t>
            </a:r>
            <a:r>
              <a:rPr b="0" i="1" lang="en-US" sz="2000" spc="-1" strike="noStrike">
                <a:solidFill>
                  <a:srgbClr val="ff6600"/>
                </a:solidFill>
                <a:latin typeface="Verdana"/>
              </a:rPr>
              <a:t>cont</a:t>
            </a: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Intakes </a:t>
            </a:r>
            <a:r>
              <a:rPr b="1" lang="en-US" sz="2400" spc="-1" strike="noStrike" u="sng">
                <a:solidFill>
                  <a:srgbClr val="ff6600"/>
                </a:solidFill>
                <a:uFillTx/>
                <a:latin typeface="Verdana"/>
              </a:rPr>
              <a:t>below EAR</a:t>
            </a:r>
            <a:r>
              <a:rPr b="0" lang="en-US" sz="24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1800" spc="-1" strike="noStrike" u="sng">
                <a:solidFill>
                  <a:srgbClr val="006600"/>
                </a:solidFill>
                <a:uFillTx/>
                <a:latin typeface="Verdana"/>
              </a:rPr>
              <a:t>need to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be improved because the probability of adequacy is 50% or l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Intakes </a:t>
            </a:r>
            <a:r>
              <a:rPr b="1" lang="en-US" sz="2400" spc="-1" strike="noStrike" u="sng">
                <a:solidFill>
                  <a:srgbClr val="ff6600"/>
                </a:solidFill>
                <a:uFillTx/>
                <a:latin typeface="Verdana"/>
              </a:rPr>
              <a:t>between EAR &amp; RDA</a:t>
            </a:r>
            <a:r>
              <a:rPr b="0" lang="en-US" sz="24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1800" spc="-1" strike="noStrike" u="sng">
                <a:solidFill>
                  <a:srgbClr val="006600"/>
                </a:solidFill>
                <a:uFillTx/>
                <a:latin typeface="Verdana"/>
              </a:rPr>
              <a:t>probably need to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be improved because the probability of adequacy is less than 98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Intakes </a:t>
            </a:r>
            <a:r>
              <a:rPr b="1" lang="en-US" sz="2400" spc="-1" strike="noStrike" u="sng">
                <a:solidFill>
                  <a:srgbClr val="ff6600"/>
                </a:solidFill>
                <a:uFillTx/>
                <a:latin typeface="Verdana"/>
              </a:rPr>
              <a:t>at or above RDA</a:t>
            </a:r>
            <a:r>
              <a:rPr b="0" lang="en-US" sz="24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can be considered </a:t>
            </a:r>
            <a:r>
              <a:rPr b="0" i="1" lang="en-US" sz="1800" spc="-1" strike="noStrike">
                <a:solidFill>
                  <a:srgbClr val="006600"/>
                </a:solidFill>
                <a:latin typeface="Verdana"/>
              </a:rPr>
              <a:t>adequate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Intake </a:t>
            </a:r>
            <a:r>
              <a:rPr b="1" lang="en-US" sz="2400" spc="-1" strike="noStrike" u="sng">
                <a:solidFill>
                  <a:srgbClr val="ff6600"/>
                </a:solidFill>
                <a:uFillTx/>
                <a:latin typeface="Verdana"/>
              </a:rPr>
              <a:t>above AI</a:t>
            </a:r>
            <a:r>
              <a:rPr b="0" lang="en-US" sz="24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can be considered </a:t>
            </a:r>
            <a:r>
              <a:rPr b="0" i="1" lang="en-US" sz="1800" spc="-1" strike="noStrike">
                <a:solidFill>
                  <a:srgbClr val="006600"/>
                </a:solidFill>
                <a:latin typeface="Verdana"/>
              </a:rPr>
              <a:t>adequate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Intakes </a:t>
            </a:r>
            <a:r>
              <a:rPr b="1" lang="en-US" sz="2400" spc="-1" strike="noStrike" u="sng">
                <a:solidFill>
                  <a:srgbClr val="ff6600"/>
                </a:solidFill>
                <a:uFillTx/>
                <a:latin typeface="Verdana"/>
              </a:rPr>
              <a:t>between RDA &amp; UL</a:t>
            </a:r>
            <a:r>
              <a:rPr b="0" lang="en-US" sz="24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can be considered 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Verdana"/>
              </a:rPr>
              <a:t>    </a:t>
            </a:r>
            <a:r>
              <a:rPr b="0" i="1" lang="en-US" sz="1800" spc="-1" strike="noStrike">
                <a:solidFill>
                  <a:srgbClr val="006600"/>
                </a:solidFill>
                <a:latin typeface="Verdana"/>
              </a:rPr>
              <a:t>no risk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for adverse eff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27_004"/>
          <p:cNvPicPr/>
          <p:nvPr/>
        </p:nvPicPr>
        <p:blipFill>
          <a:blip r:embed="rId1"/>
          <a:srcRect l="0" t="0" r="0" b="40937"/>
          <a:stretch/>
        </p:blipFill>
        <p:spPr>
          <a:xfrm>
            <a:off x="971640" y="692280"/>
            <a:ext cx="7543800" cy="52578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29600" cy="2447640"/>
          </a:xfrm>
          <a:prstGeom prst="rect">
            <a:avLst/>
          </a:prstGeom>
          <a:solidFill>
            <a:srgbClr val="ccff99"/>
          </a:solidFill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Verdana"/>
              </a:rPr>
              <a:t>DIETARY MACRONUTRI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00"/>
                </a:solidFill>
                <a:uFillTx/>
                <a:latin typeface="Verdana"/>
              </a:rPr>
              <a:t>Energy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713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Energy Requirements in Hum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The estimated energy requirement is the average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dietary energy intake predicted to maintain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an energy balance in a healthy adult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Energy balance  occurs when calories consumed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are equal to</a:t>
            </a:r>
            <a:r>
              <a:rPr b="1" i="1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the energy expended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Verdana"/>
              </a:rPr>
              <a:t>Simple approxim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Verdana"/>
              </a:rPr>
              <a:t>                   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Verdana"/>
              </a:rPr>
              <a:t>sedentary adults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require  ~ 25 Kcal/kg/day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468360" y="620640"/>
            <a:ext cx="799128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Energy Content of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It is calculated from the heat released by the total combustion of food in a calorime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It is expressed in kilocalories (kcal, or 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The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Verdana"/>
              </a:rPr>
              <a:t>standard conversion factors</a:t>
            </a: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 for determining the metabolic caloric value of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Verdana"/>
              </a:rPr>
              <a:t>fat</a:t>
            </a: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,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Verdana"/>
              </a:rPr>
              <a:t>carbohydrates</a:t>
            </a: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 and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Verdana"/>
              </a:rPr>
              <a:t>proteins</a:t>
            </a: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 are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Verdana"/>
              </a:rPr>
              <a:t>9</a:t>
            </a: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,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Verdana"/>
              </a:rPr>
              <a:t>4</a:t>
            </a: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 and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Verdana"/>
              </a:rPr>
              <a:t>4</a:t>
            </a: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 Kcal/g respectively</a:t>
            </a: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7_005"/>
          <p:cNvPicPr/>
          <p:nvPr/>
        </p:nvPicPr>
        <p:blipFill>
          <a:blip r:embed="rId1"/>
          <a:srcRect l="0" t="0" r="0" b="18909"/>
          <a:stretch/>
        </p:blipFill>
        <p:spPr>
          <a:xfrm>
            <a:off x="2484360" y="4292640"/>
            <a:ext cx="4175280" cy="168444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sp>
        <p:nvSpPr>
          <p:cNvPr id="75" name="Rectangle 7"/>
          <p:cNvSpPr/>
          <p:nvPr/>
        </p:nvSpPr>
        <p:spPr>
          <a:xfrm>
            <a:off x="539640" y="333360"/>
            <a:ext cx="8064720" cy="792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250560" y="836640"/>
            <a:ext cx="8893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How Energy is Used in the Body</a:t>
            </a: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-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Resting Metabolic Rate (RM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It is the energy expended by an individual in a </a:t>
            </a:r>
            <a:r>
              <a:rPr b="1" lang="en-US" sz="1800" spc="-1" strike="noStrike" u="sng">
                <a:solidFill>
                  <a:srgbClr val="006600"/>
                </a:solidFill>
                <a:uFillTx/>
                <a:latin typeface="Verdana"/>
              </a:rPr>
              <a:t>resting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(basal), </a:t>
            </a:r>
            <a:r>
              <a:rPr b="1" lang="en-US" sz="1800" spc="-1" strike="noStrike" u="sng">
                <a:solidFill>
                  <a:srgbClr val="006600"/>
                </a:solidFill>
                <a:uFillTx/>
                <a:latin typeface="Verdana"/>
              </a:rPr>
              <a:t>post-absorptive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metabolic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It represents the energy required to carry out the normal body functions as respiration, blood flow, ion transport and maintenance of cellular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In adults, </a:t>
            </a:r>
            <a:r>
              <a:rPr b="1" i="1" lang="en-US" sz="1800" spc="-1" strike="noStrike">
                <a:solidFill>
                  <a:srgbClr val="ff6600"/>
                </a:solidFill>
                <a:latin typeface="Verdana"/>
              </a:rPr>
              <a:t>RMR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is about   ~ </a:t>
            </a:r>
            <a:r>
              <a:rPr b="1" i="1" lang="en-US" sz="1800" spc="-1" strike="noStrike">
                <a:solidFill>
                  <a:srgbClr val="ff6600"/>
                </a:solidFill>
                <a:latin typeface="Verdana"/>
              </a:rPr>
              <a:t>1800</a:t>
            </a:r>
            <a:r>
              <a:rPr b="1" i="1" lang="en-US" sz="1800" spc="-1" strike="noStrike">
                <a:solidFill>
                  <a:srgbClr val="006600"/>
                </a:solidFill>
                <a:latin typeface="Verdana"/>
              </a:rPr>
              <a:t> Kcal for </a:t>
            </a:r>
            <a:r>
              <a:rPr b="1" i="1" lang="en-US" sz="1800" spc="-1" strike="noStrike">
                <a:solidFill>
                  <a:srgbClr val="ff6600"/>
                </a:solidFill>
                <a:latin typeface="Verdana"/>
              </a:rPr>
              <a:t>men</a:t>
            </a:r>
            <a:r>
              <a:rPr b="1" i="1" lang="en-US" sz="1800" spc="-1" strike="noStrike">
                <a:solidFill>
                  <a:srgbClr val="006600"/>
                </a:solidFill>
                <a:latin typeface="Verdana"/>
              </a:rPr>
              <a:t>       (~ 70 kg)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                                   &amp; ~ </a:t>
            </a:r>
            <a:r>
              <a:rPr b="1" i="1" lang="en-US" sz="1800" spc="-1" strike="noStrike">
                <a:solidFill>
                  <a:srgbClr val="ff6600"/>
                </a:solidFill>
                <a:latin typeface="Verdana"/>
              </a:rPr>
              <a:t>1300</a:t>
            </a:r>
            <a:r>
              <a:rPr b="1" i="1" lang="en-US" sz="18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1" i="1" lang="en-US" sz="1800" spc="-1" strike="noStrike">
                <a:solidFill>
                  <a:srgbClr val="006600"/>
                </a:solidFill>
                <a:latin typeface="Verdana"/>
              </a:rPr>
              <a:t>Kcal for </a:t>
            </a:r>
            <a:r>
              <a:rPr b="1" i="1" lang="en-US" sz="1800" spc="-1" strike="noStrike">
                <a:solidFill>
                  <a:srgbClr val="ff6600"/>
                </a:solidFill>
                <a:latin typeface="Verdana"/>
              </a:rPr>
              <a:t>women</a:t>
            </a:r>
            <a:r>
              <a:rPr b="1" i="1" lang="en-US" sz="1800" spc="-1" strike="noStrike">
                <a:solidFill>
                  <a:srgbClr val="006600"/>
                </a:solidFill>
                <a:latin typeface="Verdana"/>
              </a:rPr>
              <a:t> (~ 50 k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50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 –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70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 %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of the daily energy expenditure in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sedentary individuals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is due to </a:t>
            </a:r>
            <a:r>
              <a:rPr b="1" i="1" lang="en-US" sz="1800" spc="-1" strike="noStrike">
                <a:solidFill>
                  <a:srgbClr val="ff6600"/>
                </a:solidFill>
                <a:latin typeface="Verdana"/>
              </a:rPr>
              <a:t>RM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84360" y="692280"/>
            <a:ext cx="8135640" cy="720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1403280" y="1700280"/>
            <a:ext cx="6985080" cy="43344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915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-</a:t>
            </a: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Thermic Effect of Food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diet induced thermogenesis</a:t>
            </a: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It means, the production of heat by the body increases as much as 30% above the resting level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during the digestion and absorption of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Over 24 hour-periods, the thermic response to food intake may amount to about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5– 10 % of the total energy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1403280" y="692280"/>
            <a:ext cx="6624720" cy="100800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250920" y="-152280"/>
            <a:ext cx="8893080" cy="68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  </a:t>
            </a:r>
            <a:r>
              <a:rPr b="1" lang="en-US" sz="4800" spc="-1" strike="noStrike">
                <a:solidFill>
                  <a:srgbClr val="ff6600"/>
                </a:solidFill>
                <a:latin typeface="Verdana"/>
              </a:rPr>
              <a:t>Nutrients</a:t>
            </a:r>
            <a:r>
              <a:rPr b="1" lang="en-US" sz="4800" spc="-1" strike="noStrike">
                <a:solidFill>
                  <a:srgbClr val="ff6600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are constituents of food  that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prov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Verdana"/>
              </a:rPr>
              <a:t>energy</a:t>
            </a: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 &amp;  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Verdana"/>
              </a:rPr>
              <a:t>essential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necessary to sustain normal body fun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- </a:t>
            </a: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Macronutrients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(</a:t>
            </a:r>
            <a:r>
              <a:rPr b="1" lang="en-US" sz="2000" spc="-1" strike="noStrike">
                <a:solidFill>
                  <a:srgbClr val="ff6600"/>
                </a:solidFill>
                <a:latin typeface="Verdana"/>
              </a:rPr>
              <a:t>carbohydrates, fats &amp; proteins</a:t>
            </a: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   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Provide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   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Provide essential molecules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ff6600"/>
                </a:solidFill>
                <a:latin typeface="Verdana"/>
              </a:rPr>
              <a:t>(essential amino acids &amp; essential fatty aci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- </a:t>
            </a: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Micronutr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provide essential molecules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vitamins &amp; minerals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50920" y="852120"/>
            <a:ext cx="86421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Verdana"/>
              </a:rPr>
              <a:t>3-</a:t>
            </a: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Physical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Muscular activity provides the </a:t>
            </a:r>
            <a:r>
              <a:rPr b="1" lang="en-US" sz="1800" spc="-1" strike="noStrike" u="sng">
                <a:solidFill>
                  <a:srgbClr val="006600"/>
                </a:solidFill>
                <a:uFillTx/>
                <a:latin typeface="Verdana"/>
              </a:rPr>
              <a:t>greatest variation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in energy expendi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The amount of energy consumed depends on the duration and intensity of the exerc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In gener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sedentary person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requires ~ 30 % more than RM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highly active individual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may require 100% or more calories above RM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657360" y="777960"/>
            <a:ext cx="7920000" cy="68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27_006"/>
          <p:cNvPicPr/>
          <p:nvPr/>
        </p:nvPicPr>
        <p:blipFill>
          <a:blip r:embed="rId1"/>
          <a:srcRect l="2472" t="1554" r="2133" b="22759"/>
          <a:stretch/>
        </p:blipFill>
        <p:spPr>
          <a:xfrm>
            <a:off x="1476360" y="587520"/>
            <a:ext cx="641196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AMDRs are defined as a </a:t>
            </a:r>
            <a:r>
              <a:rPr b="1" lang="en-US" sz="1800" spc="-1" strike="noStrike" u="sng">
                <a:solidFill>
                  <a:srgbClr val="006600"/>
                </a:solidFill>
                <a:uFillTx/>
                <a:latin typeface="Verdana"/>
              </a:rPr>
              <a:t>range of intakes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for a particu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macronutrient that is associated wit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reduced risk of chronic dise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providing adequate amounts of essential nutr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AMDRs</a:t>
            </a:r>
            <a:r>
              <a:rPr b="1" i="1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 </a:t>
            </a:r>
            <a:r>
              <a:rPr b="1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for adults</a:t>
            </a:r>
            <a:r>
              <a:rPr b="1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       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45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 –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65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 %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of their total calories from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carbohyd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       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20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 –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35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 %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of their total calories from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f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       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10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-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35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 %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of their total calories from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prot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395280" y="692280"/>
            <a:ext cx="8209080" cy="734040"/>
          </a:xfrm>
          <a:prstGeom prst="rect">
            <a:avLst/>
          </a:prstGeom>
          <a:solidFill>
            <a:srgbClr val="ccff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6600"/>
                </a:solidFill>
                <a:uFillTx/>
                <a:latin typeface="Verdana"/>
              </a:rPr>
              <a:t>A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cceptable </a:t>
            </a:r>
            <a:r>
              <a:rPr b="1" lang="en-US" sz="2400" spc="-1" strike="noStrike" u="sng">
                <a:solidFill>
                  <a:srgbClr val="ff6600"/>
                </a:solidFill>
                <a:uFillTx/>
                <a:latin typeface="Verdana"/>
              </a:rPr>
              <a:t>M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acronutrient </a:t>
            </a:r>
            <a:r>
              <a:rPr b="1" lang="en-US" sz="2400" spc="-1" strike="noStrike" u="sng">
                <a:solidFill>
                  <a:srgbClr val="ff6600"/>
                </a:solidFill>
                <a:uFillTx/>
                <a:latin typeface="Verdana"/>
              </a:rPr>
              <a:t>D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istribution </a:t>
            </a:r>
            <a:r>
              <a:rPr b="1" lang="en-US" sz="2400" spc="-1" strike="noStrike" u="sng">
                <a:solidFill>
                  <a:srgbClr val="ff6600"/>
                </a:solidFill>
                <a:uFillTx/>
                <a:latin typeface="Verdana"/>
              </a:rPr>
              <a:t>R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anges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(AMD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95280" y="851040"/>
            <a:ext cx="835344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AMDR</a:t>
            </a:r>
            <a:r>
              <a:rPr b="1" lang="en-US" sz="2000" spc="-1" strike="noStrike">
                <a:solidFill>
                  <a:srgbClr val="ff6600"/>
                </a:solidFill>
                <a:latin typeface="Verdana"/>
              </a:rPr>
              <a:t> represents a ba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to avoid risks associated with excess consumption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of any particular macronutr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00"/>
                </a:solidFill>
                <a:uFillTx/>
                <a:latin typeface="Verdana"/>
              </a:rPr>
              <a:t>Very high FAT diets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(esp.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sat. fas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) is associated with: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    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1- Weight 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   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2- Increased LDL cholesterol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   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3- Increases the risk of coronary heart disease (CH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00"/>
                </a:solidFill>
                <a:uFillTx/>
                <a:latin typeface="Verdana"/>
              </a:rPr>
              <a:t>Very high CARBOHYDRATE diets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are associated with: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   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1-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Reduction of HDL cholesterol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   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2- Increase in triglycerides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concent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3- Increase risk of coronary heart disease (CH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00"/>
                </a:solidFill>
                <a:uFillTx/>
                <a:latin typeface="Verdana"/>
              </a:rPr>
              <a:t>PROTEIN intakes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according to AMDR ensu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an adequate supply of amino acids for tissue grow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maintenance and rep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468360" y="692280"/>
            <a:ext cx="7991280" cy="1224000"/>
          </a:xfrm>
          <a:prstGeom prst="rect">
            <a:avLst/>
          </a:prstGeom>
          <a:noFill/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shsaleh\Documents\lippincot photos\c27\27_007.jpg"/>
          <p:cNvPicPr/>
          <p:nvPr/>
        </p:nvPicPr>
        <p:blipFill>
          <a:blip r:embed="rId1"/>
          <a:srcRect l="23485" t="0" r="22739" b="10529"/>
          <a:stretch/>
        </p:blipFill>
        <p:spPr>
          <a:xfrm>
            <a:off x="1619280" y="1628640"/>
            <a:ext cx="6091200" cy="48247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539640" y="404640"/>
            <a:ext cx="7993080" cy="10688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Verdana"/>
              </a:rPr>
              <a:t>AMDRs</a:t>
            </a:r>
            <a:r>
              <a:rPr b="1" i="1" lang="en-US" sz="3200" spc="-1" strike="noStrike" u="sng">
                <a:solidFill>
                  <a:srgbClr val="ff6600"/>
                </a:solidFill>
                <a:uFillTx/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Verdana"/>
              </a:rPr>
              <a:t>for adults</a:t>
            </a:r>
            <a:r>
              <a:rPr b="1" lang="en-US" sz="3200" spc="-1" strike="noStrike" u="sng">
                <a:solidFill>
                  <a:srgbClr val="ff6600"/>
                </a:solidFill>
                <a:uFillTx/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29600" cy="2447640"/>
          </a:xfrm>
          <a:prstGeom prst="rect">
            <a:avLst/>
          </a:prstGeom>
          <a:solidFill>
            <a:srgbClr val="ccff99"/>
          </a:solidFill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Verdana"/>
              </a:rPr>
              <a:t>DIETARY MACRONUTRI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00"/>
                </a:solidFill>
                <a:uFillTx/>
                <a:latin typeface="Verdana"/>
              </a:rPr>
              <a:t>BIOLOGIC PROPERTIES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9640" y="112536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The incidence of a number of chronic diseases are significantly influenced by the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kinds</a:t>
            </a: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and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amounts</a:t>
            </a: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of nutrients consum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The role of the dietary fats and the risk of coronary heart diseases (CH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104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Verdana"/>
              </a:rPr>
              <a:t>Die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Verdana"/>
              </a:rPr>
              <a:t>Carbohydra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820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A-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Verdana"/>
              </a:rPr>
              <a:t>Simple Suga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1-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Monosaccharides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Glucose &amp; fructose: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the principal monosaccharides in fo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Free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en-US" sz="1800" spc="-1" strike="noStrike" u="sng">
                <a:solidFill>
                  <a:srgbClr val="006600"/>
                </a:solidFill>
                <a:uFillTx/>
                <a:latin typeface="Verdana"/>
              </a:rPr>
              <a:t>glucose &amp; fructose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: available in fruits &amp; bee h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2-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Disaccharides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00"/>
                </a:solidFill>
                <a:uFillTx/>
                <a:latin typeface="Verdana"/>
              </a:rPr>
              <a:t>Sucrose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(glucose + fructose):    in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table sugar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&amp;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molasses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00"/>
                </a:solidFill>
                <a:uFillTx/>
                <a:latin typeface="Verdana"/>
              </a:rPr>
              <a:t>Lactose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(glucose + galactose):   in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mi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00"/>
                </a:solidFill>
                <a:uFillTx/>
                <a:latin typeface="Verdana"/>
              </a:rPr>
              <a:t>Maltose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(glucose + glucose) :   in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malt liqu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B-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Verdana"/>
              </a:rPr>
              <a:t>Complex Carbohydrates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(Polysacchari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00"/>
                </a:solidFill>
                <a:uFillTx/>
                <a:latin typeface="Verdana"/>
              </a:rPr>
              <a:t>Starch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: are polymers of glucose &amp; do not have a sweet tas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is a complex carbohydrate that is found in abundance in </a:t>
            </a:r>
            <a:r>
              <a:rPr b="1" lang="en-US" sz="1800" spc="-1" strike="noStrike" u="sng">
                <a:solidFill>
                  <a:srgbClr val="006600"/>
                </a:solidFill>
                <a:uFillTx/>
                <a:latin typeface="Verdana"/>
              </a:rPr>
              <a:t>plants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wheat &amp; other grains, potatoes, peas, beans &amp; vegetab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solidFill>
            <a:srgbClr val="ccff99"/>
          </a:solidFill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      </a:t>
            </a: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Diet Carbohydrates</a:t>
            </a: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24000" y="1773000"/>
            <a:ext cx="83484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C-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Verdana"/>
              </a:rPr>
              <a:t>Dietary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Verdana"/>
              </a:rPr>
              <a:t>Fibe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The </a:t>
            </a:r>
            <a:r>
              <a:rPr b="0" lang="en-US" sz="1600" spc="-1" strike="noStrike" u="sng">
                <a:solidFill>
                  <a:srgbClr val="006600"/>
                </a:solidFill>
                <a:uFillTx/>
                <a:latin typeface="Verdana"/>
              </a:rPr>
              <a:t>nondigestible</a:t>
            </a: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 carbohydrates &amp; is present in </a:t>
            </a:r>
            <a:r>
              <a:rPr b="0" lang="en-US" sz="1600" spc="-1" strike="noStrike" u="sng">
                <a:solidFill>
                  <a:srgbClr val="006600"/>
                </a:solidFill>
                <a:uFillTx/>
                <a:latin typeface="Verdana"/>
              </a:rPr>
              <a:t>plants</a:t>
            </a: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provides </a:t>
            </a:r>
            <a:r>
              <a:rPr b="0" lang="en-US" sz="1600" spc="-1" strike="noStrike" u="sng">
                <a:solidFill>
                  <a:srgbClr val="006600"/>
                </a:solidFill>
                <a:uFillTx/>
                <a:latin typeface="Verdana"/>
              </a:rPr>
              <a:t>little energy</a:t>
            </a: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 but has several </a:t>
            </a:r>
            <a:r>
              <a:rPr b="0" lang="en-US" sz="1600" spc="-1" strike="noStrike" u="sng">
                <a:solidFill>
                  <a:srgbClr val="006600"/>
                </a:solidFill>
                <a:uFillTx/>
                <a:latin typeface="Verdana"/>
              </a:rPr>
              <a:t>beneficial</a:t>
            </a: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 eff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1-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Soluble fiber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: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refers to fibers that form a viscous gel when mixed with a liquid e.g pectins, gu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2-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Insoluble fiber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: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passes through the digestive tract largely intact e.g cellul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081440"/>
          </a:xfrm>
          <a:prstGeom prst="rect">
            <a:avLst/>
          </a:prstGeom>
          <a:solidFill>
            <a:srgbClr val="ccff99"/>
          </a:solidFill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      </a:t>
            </a: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Diet Carbohydrates </a:t>
            </a: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cont.</a:t>
            </a: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27_001"/>
          <p:cNvPicPr/>
          <p:nvPr/>
        </p:nvPicPr>
        <p:blipFill>
          <a:blip r:embed="rId1"/>
          <a:srcRect l="11191" t="0" r="10272" b="17425"/>
          <a:stretch/>
        </p:blipFill>
        <p:spPr>
          <a:xfrm>
            <a:off x="1092240" y="549360"/>
            <a:ext cx="7095960" cy="61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24000" y="1700280"/>
            <a:ext cx="8496000" cy="49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Functions of dietary fib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1-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Reduces constipation &amp; hemorrhoids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Fiber adds to the bulk of diet as it can adsorb 10- 15 times its own weight water drawing fluid into the lumen of the intestine and increase bowel motility, thus reducing exposure of gut to carcinoge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2-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Delays gastric empt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which can result 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i- sensation of full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ii-reduced peak of blood glucose following a me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3-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Lower plasma LDL cholesterol (with reducing risk of CH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By decreasing absorption of cholesterol &amp; other f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     </a:t>
            </a: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So, it increases fecal loss of cholesterol &amp; interfering with bile ac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     </a:t>
            </a: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reabsor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solidFill>
            <a:srgbClr val="ccff99"/>
          </a:solidFill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      </a:t>
            </a: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Diet Carbohydrates </a:t>
            </a: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cont.</a:t>
            </a: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842472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Recommended daily intake of fiber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 (A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25 grams for wo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38 grams for 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(~ 40 grams /d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Amount of fiber in our diet has to be Increased than current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consumed (for example: American diets contains only  ~ 11 grams/da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solidFill>
            <a:srgbClr val="ccff99"/>
          </a:solidFill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      </a:t>
            </a: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Diet Carbohydrates </a:t>
            </a: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cont.</a:t>
            </a: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50920" y="1412640"/>
            <a:ext cx="5976720" cy="50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Some carbohydrate-containing foods produce a rapid rise  followed by a steep fall in blood glucose concentration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6600"/>
                </a:solidFill>
                <a:uFillTx/>
                <a:latin typeface="Verdana"/>
              </a:rPr>
              <a:t>whereas</a:t>
            </a: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06600"/>
                </a:solidFill>
                <a:latin typeface="Verdana"/>
              </a:rPr>
              <a:t>others</a:t>
            </a: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 result in gradual rise followed by slow decl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Verdana"/>
              </a:rPr>
              <a:t>The Glycemic Index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     </a:t>
            </a:r>
            <a:r>
              <a:rPr b="0" lang="en-US" sz="1400" spc="-1" strike="noStrike">
                <a:solidFill>
                  <a:srgbClr val="006600"/>
                </a:solidFill>
                <a:latin typeface="Verdana"/>
              </a:rPr>
              <a:t>is defined as the area under the blood glucose curves seen after ingestion of meal with carbohydrate-rich food, compared with the area under the blood glucose curve after a meal consisting of the </a:t>
            </a:r>
            <a:r>
              <a:rPr b="0" lang="en-US" sz="1400" spc="-1" strike="noStrike" u="sng">
                <a:solidFill>
                  <a:srgbClr val="006600"/>
                </a:solidFill>
                <a:uFillTx/>
                <a:latin typeface="Verdana"/>
              </a:rPr>
              <a:t>same amount of carbohydrates</a:t>
            </a:r>
            <a:r>
              <a:rPr b="0" lang="en-US" sz="1400" spc="-1" strike="noStrike">
                <a:solidFill>
                  <a:srgbClr val="006600"/>
                </a:solidFill>
                <a:latin typeface="Verdana"/>
              </a:rPr>
              <a:t> in the form of glucose or white bread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Food with low glycemic index</a:t>
            </a:r>
            <a:r>
              <a:rPr b="0" lang="en-US" sz="1600" spc="-1" strike="noStrike">
                <a:solidFill>
                  <a:srgbClr val="ff66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tends to</a:t>
            </a: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lnSpc>
                <a:spcPct val="100000"/>
              </a:lnSpc>
              <a:spcBef>
                <a:spcPts val="400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create sense of satiety over a longer period of ti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lnSpc>
                <a:spcPct val="100000"/>
              </a:lnSpc>
              <a:spcBef>
                <a:spcPts val="400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&amp; may help to limit caloric inta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52360"/>
          </a:xfrm>
          <a:prstGeom prst="rect">
            <a:avLst/>
          </a:prstGeom>
          <a:solidFill>
            <a:srgbClr val="ccff99"/>
          </a:solidFill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     </a:t>
            </a: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Diet Carbohydrates </a:t>
            </a:r>
            <a:br>
              <a:rPr sz="2800"/>
            </a:br>
            <a:r>
              <a:rPr b="0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&amp; Blood Gluc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27_017"/>
          <p:cNvPicPr/>
          <p:nvPr/>
        </p:nvPicPr>
        <p:blipFill>
          <a:blip r:embed="rId1"/>
          <a:srcRect l="11413" t="0" r="12241" b="5504"/>
          <a:stretch/>
        </p:blipFill>
        <p:spPr>
          <a:xfrm>
            <a:off x="6386400" y="1916280"/>
            <a:ext cx="25066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90240" y="1916280"/>
            <a:ext cx="85741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Carbohydrates are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not essential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nutrients, because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carbon skeletons of amino acids can be converted into 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HOW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the absence of dietary carbohydrate lead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degradation of body proteins who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constituent amino acids provide the carbon skeleton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gluconeoge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52520" y="585360"/>
            <a:ext cx="8229600" cy="1143000"/>
          </a:xfrm>
          <a:prstGeom prst="rect">
            <a:avLst/>
          </a:prstGeom>
          <a:solidFill>
            <a:srgbClr val="ccff99"/>
          </a:solidFill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     </a:t>
            </a: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Diet Carbohydrates </a:t>
            </a:r>
            <a:br>
              <a:rPr sz="2800"/>
            </a:br>
            <a:r>
              <a:rPr b="0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23640" y="1628280"/>
            <a:ext cx="856908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Is set at </a:t>
            </a:r>
            <a:r>
              <a:rPr b="1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130 g/day</a:t>
            </a:r>
            <a:r>
              <a:rPr b="0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 </a:t>
            </a:r>
            <a:r>
              <a:rPr b="1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for adults &amp; children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amount of glucose used by carbohydrate dependent tiss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(as brain &amp; RBCs). This level of intake is usually exceeded to meet energy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Adults should consume </a:t>
            </a:r>
            <a:r>
              <a:rPr b="1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45 – 65 % of their total calories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from carbohydrates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Added sugar</a:t>
            </a:r>
            <a:r>
              <a:rPr b="0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Verdana"/>
              </a:rPr>
              <a:t>should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Verdana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Verdana"/>
              </a:rPr>
              <a:t>not </a:t>
            </a:r>
            <a:r>
              <a:rPr b="1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represent more than 25%</a:t>
            </a:r>
            <a:r>
              <a:rPr b="0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of total energy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as sugar may displace nutrient-rich foods from the diet, potentially leading to deficiencies of certain micronutrients (as vitamins &amp; minera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079640"/>
          </a:xfrm>
          <a:prstGeom prst="rect">
            <a:avLst/>
          </a:prstGeom>
          <a:solidFill>
            <a:srgbClr val="ccff99"/>
          </a:solidFill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     </a:t>
            </a: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Diet Carbohydrates </a:t>
            </a:r>
            <a:br>
              <a:rPr sz="2800"/>
            </a:br>
            <a:r>
              <a:rPr b="0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79280" y="2133720"/>
            <a:ext cx="856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contrary to popular belief,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carbohydrates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are not inherently fattening as They yield 4 kcal/g (the same as protein and less than one half that of fat. Carbohydrates result in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fat synthesis </a:t>
            </a:r>
            <a:r>
              <a:rPr b="1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only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when  consumed in excess of body needs of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Contrary to folklore, diets high in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sucrose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do not lea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diabetes or hypoglycemia but Excess sucrose ingestion may increase risk of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dental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caries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particularly in the absence of fluoride treat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solidFill>
            <a:srgbClr val="ccff99"/>
          </a:solidFill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     </a:t>
            </a: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Diet Carbohydrates </a:t>
            </a:r>
            <a:br>
              <a:rPr sz="2800"/>
            </a:br>
            <a:r>
              <a:rPr b="0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Simple Sugars &amp; Dis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9640" y="1844640"/>
            <a:ext cx="8229600" cy="2160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Verdana"/>
              </a:rPr>
              <a:t>Die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Verdana"/>
              </a:rPr>
              <a:t>Protei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50920" y="1413000"/>
            <a:ext cx="84247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The protein in food provides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essential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amino acid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00"/>
                </a:solidFill>
                <a:uFillTx/>
                <a:latin typeface="Verdana"/>
              </a:rPr>
              <a:t>10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of the 20 amino acids needed for the synthesis of body proteins are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essential</a:t>
            </a:r>
            <a:r>
              <a:rPr b="0" i="1" lang="en-US" sz="1800" spc="-1" strike="noStrike">
                <a:solidFill>
                  <a:srgbClr val="006600"/>
                </a:solidFill>
                <a:latin typeface="Verdana"/>
              </a:rPr>
              <a:t>.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i.e. can not be synthesized in humans at an adequate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00"/>
                </a:solidFill>
                <a:uFillTx/>
                <a:latin typeface="Verdana"/>
              </a:rPr>
              <a:t>8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of these 10 are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essential at </a:t>
            </a:r>
            <a:r>
              <a:rPr b="1" lang="en-US" sz="1800" spc="-1" strike="noStrike" u="sng">
                <a:solidFill>
                  <a:srgbClr val="006600"/>
                </a:solidFill>
                <a:uFillTx/>
                <a:latin typeface="Verdana"/>
              </a:rPr>
              <a:t>all times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00"/>
                </a:solidFill>
                <a:uFillTx/>
                <a:latin typeface="Verdana"/>
              </a:rPr>
              <a:t>Arginine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and </a:t>
            </a:r>
            <a:r>
              <a:rPr b="1" lang="en-US" sz="1800" spc="-1" strike="noStrike" u="sng">
                <a:solidFill>
                  <a:srgbClr val="006600"/>
                </a:solidFill>
                <a:uFillTx/>
                <a:latin typeface="Verdana"/>
              </a:rPr>
              <a:t>histidine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are required </a:t>
            </a:r>
            <a:r>
              <a:rPr b="0" lang="en-US" sz="1800" spc="-1" strike="noStrike" u="sng">
                <a:solidFill>
                  <a:srgbClr val="006600"/>
                </a:solidFill>
                <a:uFillTx/>
                <a:latin typeface="Verdana"/>
              </a:rPr>
              <a:t>during periods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of rapid tissue growth as in childhood and recovery from illn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936720"/>
          </a:xfrm>
          <a:prstGeom prst="rect">
            <a:avLst/>
          </a:prstGeom>
          <a:solidFill>
            <a:srgbClr val="ccff99"/>
          </a:solidFill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     </a:t>
            </a: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Diet Protein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The quality of diet prote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is a measure of its ability to provide the essential amino acids required for tissue 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00"/>
                </a:solidFill>
                <a:uFillTx/>
                <a:latin typeface="Verdana"/>
              </a:rPr>
              <a:t>The protein quality is evaluated by the following standard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Verdana"/>
              </a:rPr>
              <a:t>P</a:t>
            </a: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rotein </a:t>
            </a:r>
            <a:r>
              <a:rPr b="1" lang="en-US" sz="2000" spc="-1" strike="noStrike">
                <a:solidFill>
                  <a:srgbClr val="ff6600"/>
                </a:solidFill>
                <a:latin typeface="Verdana"/>
              </a:rPr>
              <a:t>D</a:t>
            </a: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igestibility </a:t>
            </a:r>
            <a:r>
              <a:rPr b="1" lang="en-US" sz="2000" spc="-1" strike="noStrike">
                <a:solidFill>
                  <a:srgbClr val="ff6600"/>
                </a:solidFill>
                <a:latin typeface="Verdana"/>
              </a:rPr>
              <a:t>C</a:t>
            </a: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orrected </a:t>
            </a:r>
            <a:r>
              <a:rPr b="1" lang="en-US" sz="2000" spc="-1" strike="noStrike">
                <a:solidFill>
                  <a:srgbClr val="ff66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mino </a:t>
            </a:r>
            <a:r>
              <a:rPr b="1" lang="en-US" sz="2000" spc="-1" strike="noStrike">
                <a:solidFill>
                  <a:srgbClr val="ff66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cid </a:t>
            </a:r>
            <a:r>
              <a:rPr b="1" lang="en-US" sz="2000" spc="-1" strike="noStrike">
                <a:solidFill>
                  <a:srgbClr val="ff6600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co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(</a:t>
            </a:r>
            <a:r>
              <a:rPr b="1" i="1" lang="en-US" sz="2000" spc="-1" strike="noStrike">
                <a:solidFill>
                  <a:srgbClr val="ff6600"/>
                </a:solidFill>
                <a:latin typeface="Verdana"/>
              </a:rPr>
              <a:t>PDCAAS</a:t>
            </a: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which is based on  1) the presence of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essential amino acids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                          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2) the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digestibility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of the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The highest possible score is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1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amino acid score provides a method to balance intakes of poorer-quality proteins (vegetarians) with high-quality dietary prote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solidFill>
            <a:srgbClr val="ccff99"/>
          </a:solidFill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     </a:t>
            </a: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      </a:t>
            </a: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Diet Proteins </a:t>
            </a: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cont.   </a:t>
            </a:r>
            <a:br>
              <a:rPr sz="2800"/>
            </a:br>
            <a:r>
              <a:rPr b="0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Qualit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27_018"/>
          <p:cNvPicPr/>
          <p:nvPr/>
        </p:nvPicPr>
        <p:blipFill>
          <a:blip r:embed="rId1"/>
          <a:srcRect l="0" t="0" r="0" b="40970"/>
          <a:stretch/>
        </p:blipFill>
        <p:spPr>
          <a:xfrm>
            <a:off x="1908000" y="620640"/>
            <a:ext cx="5983560" cy="3672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"/>
          <p:cNvSpPr/>
          <p:nvPr/>
        </p:nvSpPr>
        <p:spPr>
          <a:xfrm>
            <a:off x="941400" y="4941720"/>
            <a:ext cx="7591320" cy="703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Verdana"/>
              </a:rPr>
              <a:t>Protein Digestibility Corrected Amino Acid Sco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Verdana"/>
              </a:rPr>
              <a:t>(</a:t>
            </a:r>
            <a:r>
              <a:rPr b="1" i="1" lang="en-US" sz="2000" spc="-1" strike="noStrike">
                <a:solidFill>
                  <a:srgbClr val="ff6600"/>
                </a:solidFill>
                <a:latin typeface="Verdana"/>
              </a:rPr>
              <a:t>PDCAAS</a:t>
            </a:r>
            <a:r>
              <a:rPr b="1" lang="en-US" sz="2000" spc="-1" strike="noStrike">
                <a:solidFill>
                  <a:srgbClr val="ff66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As a </a:t>
            </a:r>
            <a:r>
              <a:rPr b="1" lang="en-US" sz="4000" spc="-1" strike="noStrike">
                <a:solidFill>
                  <a:srgbClr val="ff6600"/>
                </a:solidFill>
                <a:latin typeface="Verdana"/>
              </a:rPr>
              <a:t>physician</a:t>
            </a: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 !!</a:t>
            </a:r>
            <a:br>
              <a:rPr sz="4000"/>
            </a:b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Why should I study </a:t>
            </a:r>
            <a:r>
              <a:rPr b="1" lang="en-US" sz="4000" spc="-1" strike="noStrike">
                <a:solidFill>
                  <a:srgbClr val="ff6600"/>
                </a:solidFill>
                <a:latin typeface="Verdana"/>
              </a:rPr>
              <a:t>nutrition</a:t>
            </a: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??</a:t>
            </a: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2331720"/>
            <a:ext cx="8229600" cy="37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A physician needs to know kinds &amp; amount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macronutrients &amp; micronutri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required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Maintain optimal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Prevent chronic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1-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Animal Sources Prot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with a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high quality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as they contain all essential amino acids in proportions similar to those required for synthesis of human tissue proteins (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except for gelatin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prepared from animal collagen which is of low biological value as a result of deficiencies in several essential amino acid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2-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Plant Sources Prot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Proteins from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wheat, corn, rice &amp; be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with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a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lower quality</a:t>
            </a:r>
            <a:r>
              <a:rPr b="0" lang="ar-SA" sz="1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than of animal prote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Proteins from different plant sources may be </a:t>
            </a:r>
            <a:r>
              <a:rPr b="0" lang="en-US" sz="1800" spc="-1" strike="noStrike" u="sng">
                <a:solidFill>
                  <a:srgbClr val="006600"/>
                </a:solidFill>
                <a:uFillTx/>
                <a:latin typeface="Verdana"/>
              </a:rPr>
              <a:t>combined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in a  way that the result is equivalent in nutritional value to animal prote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solidFill>
            <a:srgbClr val="ccff99"/>
          </a:solidFill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     </a:t>
            </a: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      </a:t>
            </a: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Diet Proteins </a:t>
            </a: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cont.   </a:t>
            </a:r>
            <a:br>
              <a:rPr sz="2800"/>
            </a:br>
            <a:r>
              <a:rPr b="0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Sourc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6407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Nitrogen balance occurs when the amount of nitrogen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consu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0" lang="en-US" sz="1800" spc="-1" strike="noStrike" u="sng">
                <a:solidFill>
                  <a:srgbClr val="006600"/>
                </a:solidFill>
                <a:uFillTx/>
                <a:latin typeface="Verdana"/>
              </a:rPr>
              <a:t>equals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that of the nitrogen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excreted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in urine, sweat and fae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1-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Positive nitrogen ba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nitrogen intake exceeds nitrogen excretion (los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occurs in situations in which tissue growth occurs as 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children, pregnancy or during recovery from an emaciating illn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2-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Negative nitrogen ba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nitrogen loss is exceeds nitrogen inta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occurs with inadequate dietary protein, lack of essential amino acids, or during physiologic stresses as trauma, burns, illness  or surg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solidFill>
            <a:srgbClr val="ccff99"/>
          </a:solidFill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     </a:t>
            </a: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      </a:t>
            </a: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Diet Proteins </a:t>
            </a: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cont.   </a:t>
            </a:r>
            <a:br>
              <a:rPr sz="2800"/>
            </a:br>
            <a:r>
              <a:rPr b="0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Nitrogen Balan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26960" y="1854000"/>
            <a:ext cx="8516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The greater the proportion of animal protein included in diet, the less the protein is requir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Adults: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0.8 g/kg/day (proteins of mixed biological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Children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: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2 g/kg/da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People who exercise on a regular basis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(athletes):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1g/kg/day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Pregnant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 &amp;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lactating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women: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require up to 30 g/day in addition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                                              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to their basal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solidFill>
            <a:srgbClr val="ccff99"/>
          </a:solidFill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     </a:t>
            </a: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      </a:t>
            </a: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Diet Proteins </a:t>
            </a: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cont.   </a:t>
            </a:r>
            <a:br>
              <a:rPr sz="2800"/>
            </a:br>
            <a:r>
              <a:rPr b="0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Requirement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There are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no physiologic advantages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to the consumption of more protein than the R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Proteins consumed in excess of the body's needs is </a:t>
            </a:r>
            <a:r>
              <a:rPr b="0" lang="en-US" sz="1800" spc="-1" strike="noStrike" u="sng">
                <a:solidFill>
                  <a:srgbClr val="006600"/>
                </a:solidFill>
                <a:uFillTx/>
                <a:latin typeface="Verdana"/>
              </a:rPr>
              <a:t>deaminated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and the resulting carbon skeleton metabolized to provi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1- ener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0" i="1" lang="en-US" sz="1800" spc="-1" strike="noStrike">
                <a:solidFill>
                  <a:srgbClr val="006600"/>
                </a:solidFill>
                <a:latin typeface="Verdana"/>
              </a:rPr>
              <a:t>or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2- acetyl CoA for fatty acid 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solidFill>
            <a:srgbClr val="ccff99"/>
          </a:solidFill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     </a:t>
            </a: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      </a:t>
            </a: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Diet Proteins </a:t>
            </a: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cont.   </a:t>
            </a:r>
            <a:br>
              <a:rPr sz="2800"/>
            </a:br>
            <a:r>
              <a:rPr b="0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Consumption of excess protein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3640" y="198864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When the intake of the carbohydrates is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low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, amino acids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deaminated to provide carbon skeleton for the synthesis of gluco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that is needed for energy production especially to b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(gluconeogenes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If carbohydrates intake is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less than 130 g/day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, a great amoun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proteins are metabolized to provide precursors of gluconeogenes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(protein lo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Therefore, 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carbohydrate is considered to be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protein-sparing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as it allows amino acids to be used for repair and maintenance of tiss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protein instead of being used for gluconeogene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solidFill>
            <a:srgbClr val="ccff99"/>
          </a:solidFill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     </a:t>
            </a: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      </a:t>
            </a: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Diet Proteins </a:t>
            </a: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cont.   </a:t>
            </a:r>
            <a:br>
              <a:rPr sz="2800"/>
            </a:br>
            <a:r>
              <a:rPr b="0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Protein sparing effect of carbohydrat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1-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Related to a nutritional status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:      inadequate intake of prote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(common in poor countries)               and/or energy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2-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Related to a medical condition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:   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Chronic illn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(common in developed countries)       Major trau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                                                    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Severe infectio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                                                    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Major surg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Affected individuals show a variety of symptoms, including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depressed immune system with a reduced ability to resist infec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Death due to a secondary infection is comm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      </a:t>
            </a:r>
            <a:r>
              <a:rPr b="1" lang="en-US" sz="1600" spc="-1" strike="noStrike">
                <a:solidFill>
                  <a:srgbClr val="006600"/>
                </a:solidFill>
                <a:latin typeface="Verdana"/>
              </a:rPr>
              <a:t>Two extreme forms of malnutrition are observ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6600"/>
                </a:solidFill>
                <a:latin typeface="Verdana"/>
              </a:rPr>
              <a:t>KWASHIORK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6600"/>
                </a:solidFill>
                <a:latin typeface="Verdana"/>
              </a:rPr>
              <a:t>MARASM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solidFill>
            <a:srgbClr val="ccff99"/>
          </a:solidFill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     </a:t>
            </a: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      </a:t>
            </a: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Diet Proteins </a:t>
            </a: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cont.   </a:t>
            </a:r>
            <a:br>
              <a:rPr sz="2800"/>
            </a:br>
            <a:r>
              <a:rPr b="0" lang="en-US" sz="2400" spc="-1" strike="noStrike" u="sng">
                <a:solidFill>
                  <a:srgbClr val="ff6600"/>
                </a:solidFill>
                <a:uFillTx/>
                <a:latin typeface="Verdana"/>
              </a:rPr>
              <a:t>Protein-Calorie Malnutrition</a:t>
            </a:r>
            <a:br>
              <a:rPr sz="28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78920" y="1196640"/>
            <a:ext cx="8425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1- </a:t>
            </a:r>
            <a:r>
              <a:rPr b="1" lang="en-US" sz="2000" spc="-1" strike="noStrike">
                <a:solidFill>
                  <a:srgbClr val="ff6600"/>
                </a:solidFill>
                <a:latin typeface="Verdana"/>
              </a:rPr>
              <a:t>KWASHIORK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Kwashiorkor occurs when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protein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deprivation is relative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greater than the reduction in total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calories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Frequent in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children after weaning at about one year of age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,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when their diet consists predominantly of carbohydr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Typical symptoms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      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Decreased blood albumin concent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          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Ede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         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Stunted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Skin le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Depigmentated 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Anorex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Enlarged fatty li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solidFill>
            <a:srgbClr val="ccff99"/>
          </a:solidFill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     </a:t>
            </a: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      </a:t>
            </a: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Diet Proteins </a:t>
            </a: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cont.   </a:t>
            </a:r>
            <a:br>
              <a:rPr sz="2800"/>
            </a:br>
            <a:r>
              <a:rPr b="0" lang="en-US" sz="2400" spc="-1" strike="noStrike" u="sng">
                <a:solidFill>
                  <a:srgbClr val="ff6600"/>
                </a:solidFill>
                <a:uFillTx/>
                <a:latin typeface="Verdana"/>
              </a:rPr>
              <a:t>Protein-Calorie Malnutrition</a:t>
            </a:r>
            <a:br>
              <a:rPr sz="28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6443640" y="3213000"/>
            <a:ext cx="244944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2- </a:t>
            </a:r>
            <a:r>
              <a:rPr b="1" lang="en-US" sz="2000" spc="-1" strike="noStrike">
                <a:solidFill>
                  <a:srgbClr val="ff6600"/>
                </a:solidFill>
                <a:latin typeface="Verdana"/>
              </a:rPr>
              <a:t>MARAS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Marasmus occurs when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calorie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deprivation is relatively greater than the reduction of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Marasmus usually occurs in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children younger than one year of age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when the mother's breast milk is supplemented with native cereals which are usually deficient in protein and cal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Typical symptoms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      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arrested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      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extreme muscular wa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      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weaknes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      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anem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Verdana"/>
              </a:rPr>
              <a:t>           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No edema or changes in plasma proteins (album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solidFill>
            <a:srgbClr val="ccff99"/>
          </a:solidFill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     </a:t>
            </a: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      </a:t>
            </a: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Diet Proteins </a:t>
            </a: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cont.   </a:t>
            </a:r>
            <a:br>
              <a:rPr sz="2800"/>
            </a:br>
            <a:r>
              <a:rPr b="0" lang="en-US" sz="2400" spc="-1" strike="noStrike" u="sng">
                <a:solidFill>
                  <a:srgbClr val="ff6600"/>
                </a:solidFill>
                <a:uFillTx/>
                <a:latin typeface="Verdana"/>
              </a:rPr>
              <a:t>Protein-Calorie Malnutrition</a:t>
            </a:r>
            <a:br>
              <a:rPr sz="28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5651640" y="3406680"/>
            <a:ext cx="302400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75840" y="1120680"/>
            <a:ext cx="864252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Dietary Reference Intakes (</a:t>
            </a:r>
            <a:r>
              <a:rPr b="1" i="1" lang="en-US" sz="2800" spc="-1" strike="noStrike">
                <a:solidFill>
                  <a:srgbClr val="ff6600"/>
                </a:solidFill>
                <a:latin typeface="Verdana"/>
              </a:rPr>
              <a:t>DRIs</a:t>
            </a: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They are estimates of the amounts of nutrients required to prevent deficiencies &amp; maintain optimal health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Verdana"/>
              </a:rPr>
              <a:t>DRIs</a:t>
            </a:r>
            <a:r>
              <a:rPr b="1" i="1" lang="en-US" sz="1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replace and expand on </a:t>
            </a:r>
            <a:r>
              <a:rPr b="0" i="1" lang="en-US" sz="1800" spc="-1" strike="noStrike">
                <a:solidFill>
                  <a:srgbClr val="ff6600"/>
                </a:solidFill>
                <a:latin typeface="Verdana"/>
              </a:rPr>
              <a:t>Recommended Diet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Verdana"/>
              </a:rPr>
              <a:t>Allowances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 (</a:t>
            </a:r>
            <a:r>
              <a:rPr b="1" i="1" lang="en-US" sz="1800" spc="-1" strike="noStrike">
                <a:solidFill>
                  <a:srgbClr val="ff6600"/>
                </a:solidFill>
                <a:latin typeface="Verdana"/>
              </a:rPr>
              <a:t>RDAs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), published in 1941 (with periodic revisions)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Verdana"/>
              </a:rPr>
              <a:t>DRIs</a:t>
            </a:r>
            <a:r>
              <a:rPr b="1" i="1" lang="en-US" sz="1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establish </a:t>
            </a:r>
            <a:r>
              <a:rPr b="0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upper limits 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on the consumption of some nutrients and incorporate the </a:t>
            </a:r>
            <a:r>
              <a:rPr b="0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role of nutrients in lifelong 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health, going beyond deficiency diseases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Both</a:t>
            </a: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i="1" lang="en-US" sz="1800" spc="-1" strike="noStrike" u="sng">
                <a:solidFill>
                  <a:srgbClr val="ff3300"/>
                </a:solidFill>
                <a:uFillTx/>
                <a:latin typeface="Verdana"/>
              </a:rPr>
              <a:t>DRIs</a:t>
            </a:r>
            <a:r>
              <a:rPr b="1" i="1" lang="en-US" sz="18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and</a:t>
            </a: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Verdana"/>
              </a:rPr>
              <a:t>RDAs</a:t>
            </a: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refer to long-term average daily nutrient intake, because it is not necessary to consume the full RDA every day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406440" y="981000"/>
            <a:ext cx="8424720" cy="64944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Dietary Reference Intakes (DR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The </a:t>
            </a:r>
            <a:r>
              <a:rPr b="1" i="1" lang="en-US" sz="2000" spc="-1" strike="noStrike" u="sng">
                <a:solidFill>
                  <a:srgbClr val="ff6600"/>
                </a:solidFill>
                <a:uFillTx/>
                <a:latin typeface="Verdana"/>
              </a:rPr>
              <a:t>DRIs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 consist of four dietary reference standards for the intake of nutrients designed for specific age-groups, physiologic state, and se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27_002"/>
          <p:cNvPicPr/>
          <p:nvPr/>
        </p:nvPicPr>
        <p:blipFill>
          <a:blip r:embed="rId1"/>
          <a:stretch/>
        </p:blipFill>
        <p:spPr>
          <a:xfrm>
            <a:off x="2309760" y="2565360"/>
            <a:ext cx="4800600" cy="370512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560" y="-10008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1- </a:t>
            </a: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Estimated Average Requirement (E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Verdana"/>
              </a:rPr>
              <a:t>EAR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is the average daily nutrient intake level estimated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meet the nutrient requirement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600"/>
                </a:solidFill>
                <a:uFillTx/>
                <a:latin typeface="Verdana"/>
              </a:rPr>
              <a:t>one half the healthy individuals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in a particular life stage and gender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It is useful in estimating the </a:t>
            </a:r>
            <a:r>
              <a:rPr b="1" lang="en-US" sz="2000" spc="-1" strike="noStrike" u="sng">
                <a:solidFill>
                  <a:srgbClr val="ff6600"/>
                </a:solidFill>
                <a:uFillTx/>
                <a:latin typeface="Verdana"/>
              </a:rPr>
              <a:t>actual requirements </a:t>
            </a: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groups &amp; individ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395280" y="115920"/>
            <a:ext cx="8353440" cy="9367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2200320" y="4191120"/>
            <a:ext cx="47433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25000" y="1628280"/>
            <a:ext cx="8831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is the average daily dietary intake level that is sufficient to meet the nutrient requirement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600"/>
                </a:solidFill>
                <a:uFillTx/>
                <a:latin typeface="Verdana"/>
              </a:rPr>
              <a:t>nearly all individuals (97 – 98 %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in a life stage and gender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Verdana"/>
              </a:rPr>
              <a:t>RDA</a:t>
            </a:r>
            <a:r>
              <a:rPr b="0" i="1" lang="en-US" sz="18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is </a:t>
            </a:r>
            <a:r>
              <a:rPr b="1" i="1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not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the minimal requirement for healthy individual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BUT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it is set to provide a </a:t>
            </a:r>
            <a:r>
              <a:rPr b="1" lang="en-US" sz="2000" spc="-1" strike="noStrike" u="sng">
                <a:solidFill>
                  <a:srgbClr val="ff6600"/>
                </a:solidFill>
                <a:uFillTx/>
                <a:latin typeface="Verdana"/>
              </a:rPr>
              <a:t>margin of safety for most individuals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Verdana"/>
              </a:rPr>
              <a:t>EAR 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serves as the base for setting </a:t>
            </a:r>
            <a:r>
              <a:rPr b="1" i="1" lang="en-US" sz="1800" spc="-1" strike="noStrike">
                <a:solidFill>
                  <a:srgbClr val="ff6600"/>
                </a:solidFill>
                <a:latin typeface="Verdana"/>
              </a:rPr>
              <a:t>R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If SD of the of </a:t>
            </a:r>
            <a:r>
              <a:rPr b="1" i="1" lang="en-US" sz="1800" spc="-1" strike="noStrike">
                <a:solidFill>
                  <a:srgbClr val="ff6600"/>
                </a:solidFill>
                <a:latin typeface="Verdana"/>
              </a:rPr>
              <a:t>EAR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 is available and the requirement for the nutrient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normally distributed, the </a:t>
            </a:r>
            <a:r>
              <a:rPr b="0" i="1" lang="en-US" sz="1800" spc="-1" strike="noStrike">
                <a:solidFill>
                  <a:srgbClr val="ff6600"/>
                </a:solidFill>
                <a:latin typeface="Verdana"/>
              </a:rPr>
              <a:t>RDA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 is set at two SDs above the </a:t>
            </a:r>
            <a:r>
              <a:rPr b="1" i="1" lang="en-US" sz="1800" spc="-1" strike="noStrike">
                <a:solidFill>
                  <a:srgbClr val="ff6600"/>
                </a:solidFill>
                <a:latin typeface="Verdana"/>
              </a:rPr>
              <a:t>EAR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Verdana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RDA   =   EAR   +   2 SD E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"/>
          <p:cNvSpPr/>
          <p:nvPr/>
        </p:nvSpPr>
        <p:spPr>
          <a:xfrm>
            <a:off x="250920" y="333360"/>
            <a:ext cx="8642160" cy="1093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Verdana"/>
              </a:rPr>
              <a:t>2-</a:t>
            </a: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Recommended Dietary Allowances 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(R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39280" y="765000"/>
            <a:ext cx="83394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3-</a:t>
            </a:r>
            <a:r>
              <a:rPr b="1" lang="en-US" sz="20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Adequate Intake (A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AI is set instead of RDA if sufficient scientific evidence is </a:t>
            </a:r>
            <a:r>
              <a:rPr b="1" lang="en-US" sz="2000" spc="-1" strike="noStrike" u="sng">
                <a:solidFill>
                  <a:srgbClr val="006600"/>
                </a:solidFill>
                <a:uFillTx/>
                <a:latin typeface="Verdana"/>
              </a:rPr>
              <a:t>not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 available to calculate an EAR or 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Is based on estimates of nutrient intake by a group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apparently healthy people that are assumed to be adeq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Verdana"/>
              </a:rPr>
              <a:t>For example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Verdana"/>
              </a:rPr>
              <a:t>Adequate Intake (AI) 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for young infants (whom human milk is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recommended sole source of food for the first 4-6 months), is ba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on the estimated daily mean nutrient intake supplied by human mil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for healthy full term infants who are exclusively breast-f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539640" y="549360"/>
            <a:ext cx="8136000" cy="7207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4T11:13:58Z</dcterms:created>
  <dc:creator>aa</dc:creator>
  <dc:description/>
  <dc:language>en-US</dc:language>
  <cp:lastModifiedBy>Jamal Younis</cp:lastModifiedBy>
  <dcterms:modified xsi:type="dcterms:W3CDTF">2016-09-18T11:07:14Z</dcterms:modified>
  <cp:revision>584</cp:revision>
  <dc:subject/>
  <dc:title>الشريحة 1</dc:title>
</cp:coreProperties>
</file>